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FD93-21BD-4636-AA78-48ADE5F0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D76-EE69-4FBC-829F-D0A99423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life/evolution/natural-sele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www.mun.ca/biology/scarr/Stabilizing_Selection_in_Huma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970-8FC7-43B1-9D7E-970A27B6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306F-5738-4FAE-87BF-0C04B9E7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FB6-6197-4DC8-999A-78153BD0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icturenice.com/gallery3/index.php/Animales_1366x768_wallpapers_hd_fondos_papel_tapiz/Female_peahen_observing_male_peacock_his_plumage_out_-Dave_Blackey_High_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72A0-08DA-4B84-9253-FEE7A433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E3Sexualselectio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268-2FE2-489B-BA5C-0DBBCCCA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FA9-25FD-4F24-9FE6-E02F13FD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C04-B3EB-4D82-B1D7-07579113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6B3-501E-4302-807D-2F5D425D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PopGe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15C-77D7-452C-AE37-212D213C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gardenofeaden.blogspot.ca/2011/10/cheeta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tahs severe bottleneck that reduced population to just 7 individuals about 10000 years ago.  Little genetic variability, so they are susceptible to disease &amp; have low reproductive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358-7E76-4B65-AA8B-BD65E33D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Northern_Elephant_Seal,_San_Simeo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 elephant seals were overhunted &amp; reduced to 20 individuals in the 18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004-1913-4B5A-A180-9B9319DD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reethinkerperspective.blogspot.ca/2012/07/how-natural-selection-sel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by chance, not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02C8-D4F1-463D-B619-9201348A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hetripletcode.com/tag/founder-effec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pulation (by chance alone) would have a different mix of alleles than the mainland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7998-CE8E-48AA-BEB3-024B33C3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PopGe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4CA5-B34B-4C33-BFFD-05D60058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ce of malaria (left) &amp; sickle-cell anemia (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5967-ECCE-499B-9685-206881C2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FC3-E80E-4702-9D1B-F8D7FFAA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B05-0E30-4F7B-86CD-AA77B7A6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Image from: http://science.howstuffworks.com/life/evolution/natural-sele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3B17-3157-4AD4-8F5D-28944319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thehimalayanpilgrimage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xygen-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505-4F8A-4A40-A8BA-6B447313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opsci.com/category/tags/knockout-m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of Wisconsin;  selected high-runners for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0 generations higher running distances &amp; average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17BA-734E-4009-B5DF-1714981B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cknell.edu/babyla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weight just over 3 k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BC3-CF9F-4CF5-93FE-C9D470CC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948-A22B-4CEC-BCA0-C5FCB0E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927-A7EA-4016-9636-235899EB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E9D-4C5D-4585-93F0-A8E66ABD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CE8-939E-4518-B04F-B277B9D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C48-2DD4-4B73-A389-235AFC4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52A-A704-488A-A3A5-08E94DA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20F-3C08-44DE-A659-46C6A12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8FB-59E0-486B-89B2-005615D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DA6-CF55-4415-911A-35EA1EA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E91-FABD-4725-B63B-ACDE15F7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ABA-8FF2-4930-AC06-C0C27C6D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99B-474C-46CA-AD79-E304923A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j7GSu99Lm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relationshi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Stabilizing_Selection_on_birthweight.gif"/>
          <p:cNvPicPr/>
          <p:nvPr/>
        </p:nvPicPr>
        <p:blipFill>
          <a:blip r:embed="rId1"/>
          <a:srcRect l="-12957" t="0" r="-1295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mat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versus-mal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Mat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eacockPair_EN-US1270559473"/>
          <p:cNvPicPr/>
          <p:nvPr/>
        </p:nvPicPr>
        <p:blipFill>
          <a:blip r:embed="rId1"/>
          <a:stretch/>
        </p:blipFill>
        <p:spPr>
          <a:xfrm>
            <a:off x="912960" y="1981080"/>
            <a:ext cx="731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-mal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lephantseals2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 from the PBS Evolution series on sexual selection (uploaded to YouTu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j7GSu99L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utorial 1 (p.330-3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cular vision in 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dart 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eli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hifting of genetic makeup of a population (change in frequency of all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2" descr="beetles_mech3.gif"/>
          <p:cNvPicPr/>
          <p:nvPr/>
        </p:nvPicPr>
        <p:blipFill>
          <a:blip r:embed="rId1"/>
          <a:srcRect l="0" t="-61416" r="0" b="-6141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ottleneck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eetah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800px-Northern_Elephant_Seal,_San_Simeon2"/>
          <p:cNvPicPr/>
          <p:nvPr/>
        </p:nvPicPr>
        <p:blipFill>
          <a:blip r:embed="rId1"/>
          <a:stretch/>
        </p:blipFill>
        <p:spPr>
          <a:xfrm>
            <a:off x="1482840" y="1981080"/>
            <a:ext cx="617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not occur by ch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atural_selection"/>
          <p:cNvPicPr/>
          <p:nvPr/>
        </p:nvPicPr>
        <p:blipFill>
          <a:blip r:embed="rId1"/>
          <a:stretch/>
        </p:blipFill>
        <p:spPr>
          <a:xfrm>
            <a:off x="1844640" y="1676520"/>
            <a:ext cx="537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ounder-effect"/>
          <p:cNvPicPr/>
          <p:nvPr/>
        </p:nvPicPr>
        <p:blipFill>
          <a:blip r:embed="rId1"/>
          <a:stretch/>
        </p:blipFill>
        <p:spPr>
          <a:xfrm>
            <a:off x="685800" y="2627280"/>
            <a:ext cx="77724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small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riftmodel"/>
          <p:cNvPicPr/>
          <p:nvPr/>
        </p:nvPicPr>
        <p:blipFill>
          <a:blip r:embed="rId1"/>
          <a:srcRect l="3723" t="0" r="3723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equation describing relationships in allele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leading to 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population size (genetic dri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igration/Emigration (gene 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tal gen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ssue14evolution7_large"/>
          <p:cNvPicPr/>
          <p:nvPr/>
        </p:nvPicPr>
        <p:blipFill>
          <a:blip r:embed="rId1"/>
          <a:stretch/>
        </p:blipFill>
        <p:spPr>
          <a:xfrm>
            <a:off x="762120" y="2077920"/>
            <a:ext cx="7696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election_modes"/>
          <p:cNvPicPr/>
          <p:nvPr/>
        </p:nvPicPr>
        <p:blipFill>
          <a:blip r:embed="rId1"/>
          <a:stretch/>
        </p:blipFill>
        <p:spPr>
          <a:xfrm>
            <a:off x="701640" y="609480"/>
            <a:ext cx="7740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natural-selection-hummingbi"/>
          <p:cNvPicPr/>
          <p:nvPr/>
        </p:nvPicPr>
        <p:blipFill>
          <a:blip r:embed="rId1"/>
          <a:stretch/>
        </p:blipFill>
        <p:spPr>
          <a:xfrm>
            <a:off x="1380960" y="1981080"/>
            <a:ext cx="638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eta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ibet Mountain Peaks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with m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amsterwheel"/>
          <p:cNvPicPr/>
          <p:nvPr/>
        </p:nvPicPr>
        <p:blipFill>
          <a:blip r:embed="rId1"/>
          <a:stretch/>
        </p:blipFill>
        <p:spPr>
          <a:xfrm>
            <a:off x="1830240" y="1981080"/>
            <a:ext cx="548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hreebabies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57:54Z</dcterms:created>
  <dc:creator>rubina khan</dc:creator>
  <dc:description/>
  <dc:language>en-US</dc:language>
  <cp:lastModifiedBy>rubina khan</cp:lastModifiedBy>
  <dcterms:modified xsi:type="dcterms:W3CDTF">2018-03-02T20:09:12Z</dcterms:modified>
  <cp:revision>45</cp:revision>
  <dc:subject/>
  <dc:title>PowerPoint Presentation</dc:title>
</cp:coreProperties>
</file>